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488B-D0EB-4EAC-9AAD-8FB40B8A4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738E-DB95-48CC-A1F5-48A4C9E78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7E45-2930-4CF6-B384-545C7DF09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6AC8-0DCC-486F-B6D0-861D54355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291C-9B6E-4801-A1AE-2E749912F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E92C-0D07-4A45-AE4F-CC3D1D67A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E949-9A58-41E3-996C-F520D928E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7173-19A5-4D87-B000-49648F1C8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818D-53C7-46B3-96C1-F412DC834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980E-6CDE-49FE-A142-BF473648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A072-98BE-4293-95BD-B4CD04EC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E13B-9D71-4106-812A-690FBC3D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6516D-9B7D-46F1-AF92-C2E76CFA61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LEARNING INTENTION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APPLY  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SHAKESPEARE’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S BACKGROUND TO HIS WOR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INTERPRET SHAKESPEARE’S INFLUENCE ON BRITISH LITERATU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IDENTIFY AND COMPARE THE THEMES OF OTHELLO WITH THEMES IN YOUR LIF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3T19:17:32Z</dcterms:created>
  <dc:creator>WSFCS Workstation</dc:creator>
  <dc:description/>
  <dc:language>en-US</dc:language>
  <cp:lastModifiedBy>WSFCS Workstation</cp:lastModifiedBy>
  <dcterms:modified xsi:type="dcterms:W3CDTF">2009-10-23T19:20:56Z</dcterms:modified>
  <cp:revision>1</cp:revision>
  <dc:subject/>
  <dc:title>LEARNING INTENTIONS</dc:title>
</cp:coreProperties>
</file>